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EC4-FA0E-4398-9C75-D84F450A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E347-DFE3-4228-B8BC-AB64F4CA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4FDA-19E2-4990-B274-14487C09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5C3-0495-4F0C-9A05-2EF97610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822A-65D9-4905-B2A9-6F8AA468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75F-F7AE-4B0B-B15A-E82952DF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768B-EA59-401E-89D1-260E29D6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64C1-369E-4685-B0A5-90837202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0E7-C4F7-42BB-B6C2-2C592C1D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B01-C2E7-4165-841F-CA0F0C9C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C27-FBAE-4609-A6BD-143FFF83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790-D2B9-4FAB-B439-28CD31F2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4C62E-9D8C-45DB-BECB-E57C8395E3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480" y="985680"/>
            <a:ext cx="10080360" cy="57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480" y="666720"/>
            <a:ext cx="10080360" cy="63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480" y="860400"/>
            <a:ext cx="1008036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480" y="906480"/>
            <a:ext cx="10080360" cy="588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